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6ED-1DF0-47E6-8000-0BBDDDDB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5D6-B392-4BCF-80D9-641295EF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F44-9C9F-48A7-A191-BACA7D45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523-939B-4B44-9A53-7463349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B74-53B9-48C5-AD4D-0E730DF4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2EA-0931-4349-B276-69DA16A6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146-B8C9-454F-8E49-62D4FF08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CFE-D360-484A-9832-F0CFAB9D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DD1-8529-4E22-A3BE-FBA5546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35C-93AE-42CE-9F53-FEE233C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6AB-C395-4787-BEFA-0DEE305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E93-4BBB-4086-A6F7-D65706D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EFAC-D3D8-43BE-B8DA-B31FB6A2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07920"/>
            <a:ext cx="7191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ÖZLER GÖRMEZSE GÖNÜL NASIL GÖRÜR ?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-252360" y="3716280"/>
            <a:ext cx="90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 soruya yüzyıllar boyu cevap aradık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>
            <a:hlinkClick r:id="" action="ppaction://hlinkshowjump?jump=firstslide"/>
            <a:hlinkClick r:id="rId3"/>
          </p:cNvPr>
          <p:cNvSpPr/>
          <p:nvPr/>
        </p:nvSpPr>
        <p:spPr>
          <a:xfrm>
            <a:off x="8423280" y="607536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  <a:path fill="darken" w="21600" h="23455">
                <a:moveTo>
                  <a:pt x="10800" y="4764"/>
                </a:moveTo>
                <a:lnTo>
                  <a:pt x="13376" y="7376"/>
                </a:ln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lnTo>
                  <a:pt x="17763" y="11727"/>
                </a:lnTo>
                <a:lnTo>
                  <a:pt x="16109" y="11727"/>
                </a:lnTo>
                <a:lnTo>
                  <a:pt x="16109" y="18917"/>
                </a:lnTo>
                <a:lnTo>
                  <a:pt x="5491" y="18917"/>
                </a:lnTo>
                <a:lnTo>
                  <a:pt x="5491" y="11727"/>
                </a:lnTo>
                <a:lnTo>
                  <a:pt x="3837" y="11727"/>
                </a:lnTo>
                <a:close/>
              </a:path>
              <a:path fill="darkenLess" w="21600" h="23455">
                <a:moveTo>
                  <a:pt x="13376" y="7376"/>
                </a:move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close/>
              </a:path>
              <a:path fill="darkenLess" w="21600" h="23455">
                <a:moveTo>
                  <a:pt x="9877" y="15226"/>
                </a:moveTo>
                <a:lnTo>
                  <a:pt x="11723" y="15226"/>
                </a:lnTo>
                <a:lnTo>
                  <a:pt x="11723" y="18917"/>
                </a:lnTo>
                <a:lnTo>
                  <a:pt x="16109" y="18917"/>
                </a:lnTo>
                <a:lnTo>
                  <a:pt x="16109" y="11727"/>
                </a:lnTo>
                <a:lnTo>
                  <a:pt x="5491" y="11727"/>
                </a:lnTo>
                <a:lnTo>
                  <a:pt x="5491" y="18917"/>
                </a:lnTo>
                <a:lnTo>
                  <a:pt x="9877" y="18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45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OSTLAR BENİ HATIRL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AZIMDAN SES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EYİŞ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403280" y="333360"/>
            <a:ext cx="614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ERLERİ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ŞK V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0" y="5589720"/>
            <a:ext cx="9144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İM SADIK YARİM KARA TOPRAKTIR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ünümüzde de halk şiiri aynı özellikleriyle devam etmekt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şıklar köy köy Anadolu’yu geze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dyo,televizyon,CD araçlarını kullanı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HSUNİ ŞERİF,NEŞAT ERTAŞ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260280"/>
            <a:ext cx="7315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ÜNÜMÜZDE DE HALK ŞAİRİ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R MIDIR 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7_asik_veysel_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250920" y="260280"/>
            <a:ext cx="8713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ZUN İNCE BİR YOLDAYIM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İLETİŞİM BECERİLER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ARATICI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NTELEKTÜEL ME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EDYA OKUR-YAZAR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SYAL SORUMLUL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İŞİLERARASI İŞBİRLİĞ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187280" y="549360"/>
            <a:ext cx="705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1.YÜZYIL BECERİLERİ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6" descr="AŞİK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755640" y="47628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CA ANADOLU LİSESİ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900000" y="2492280"/>
            <a:ext cx="727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OZANL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müzikle birleşir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nasıl aktarıl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im ürünlerden başka neler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763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ÜNİTE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569440" y="6219720"/>
            <a:ext cx="574560" cy="638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38280"/>
              <a:gd name="textAreaBottom" fmla="*/ 601200 h 63828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3794" y="4991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08000" y="4653000"/>
            <a:ext cx="63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Halk şairi ne demek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 kim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’in eserleri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Günümüzde de halk şairi var m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İÇERİK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24000" y="6281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04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Halk şairi yüzyıllar öncesinden beri varlığını sürdüren, eskiden ozan-kam-bahşı-şaman dediğimiz sanatçılarımız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Eserlerini saz (eskiden kopuz ) eşliğinde söyle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403280" y="40464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ALK ŞAİRİ NE DEMEKTİR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766764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SIK%20VEYSEL%20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604360" y="628164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3794" y="4528"/>
                </a:moveTo>
                <a:lnTo>
                  <a:pt x="17806" y="11534"/>
                </a:lnTo>
                <a:lnTo>
                  <a:pt x="3794" y="185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ivas – Şarkışla – Sivrialan  köyünde doğmuştur.Çocukken gözlerini kaybeder. Saz çalmaya heves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31 yılında Ahmet Kutsi Tecer tarafından keşfedilir.Anadolu’da konserler verir, radyo programları yapar, konservatuarda dersl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65’te TBMM , 500 lira aylık b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187280" y="40464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ŞIK VEYSEL KİMDİR 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84000" cy="69228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61">
                <a:moveTo>
                  <a:pt x="0" y="0"/>
                </a:moveTo>
                <a:lnTo>
                  <a:pt x="21600" y="0"/>
                </a:lnTo>
                <a:lnTo>
                  <a:pt x="21600" y="21861"/>
                </a:lnTo>
                <a:lnTo>
                  <a:pt x="0" y="21861"/>
                </a:lnTo>
                <a:close/>
              </a:path>
              <a:path fill="lightenLess" w="21600" h="21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1">
                <a:moveTo>
                  <a:pt x="21600" y="0"/>
                </a:moveTo>
                <a:lnTo>
                  <a:pt x="21600" y="21861"/>
                </a:lnTo>
                <a:lnTo>
                  <a:pt x="20200" y="20461"/>
                </a:lnTo>
                <a:lnTo>
                  <a:pt x="20200" y="1400"/>
                </a:lnTo>
                <a:close/>
              </a:path>
              <a:path fill="darkenLess" w="21600" h="21861">
                <a:moveTo>
                  <a:pt x="21600" y="21861"/>
                </a:moveTo>
                <a:lnTo>
                  <a:pt x="0" y="21861"/>
                </a:lnTo>
                <a:lnTo>
                  <a:pt x="1400" y="20461"/>
                </a:lnTo>
                <a:lnTo>
                  <a:pt x="20200" y="20461"/>
                </a:lnTo>
                <a:close/>
              </a:path>
              <a:path fill="lighten" w="21600" h="21861">
                <a:moveTo>
                  <a:pt x="0" y="21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1"/>
                </a:lnTo>
                <a:close/>
              </a:path>
              <a:path fill="darken" w="21600" h="21861">
                <a:moveTo>
                  <a:pt x="3794" y="3924"/>
                </a:moveTo>
                <a:lnTo>
                  <a:pt x="17806" y="10931"/>
                </a:lnTo>
                <a:lnTo>
                  <a:pt x="3794" y="179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qwertyuıopüüüüüüüüüüüüüüüü,,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6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şık Veysel; Anadolu, toprak sevgisi, köy sorunları ve acılı hayatını iş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alk şairi geleneğini devam etti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nadolu’yu köy köy , kahve kahve ge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İki şeye çok üzülü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skere gidemem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tatürk’e yazdığı destanı okuyamamak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 ŞAHSİYETİ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yewolşnnnnny"/>
          <p:cNvPicPr/>
          <p:nvPr/>
        </p:nvPicPr>
        <p:blipFill>
          <a:blip r:embed="rId1"/>
          <a:stretch/>
        </p:blipFill>
        <p:spPr>
          <a:xfrm>
            <a:off x="-468360" y="-531720"/>
            <a:ext cx="9612360" cy="7389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916360" y="508464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ST DOST DİYE DİY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İCESİNE SARILDIM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1:36:23Z</dcterms:created>
  <dc:creator>TOSHIBA</dc:creator>
  <dc:description/>
  <dc:language>en-US</dc:language>
  <cp:lastModifiedBy>Sekreter</cp:lastModifiedBy>
  <dcterms:modified xsi:type="dcterms:W3CDTF">2011-01-06T13:55:33Z</dcterms:modified>
  <cp:revision>3</cp:revision>
  <dc:subject/>
  <dc:title>Slayt 1</dc:title>
</cp:coreProperties>
</file>